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081-ED86-467B-8A92-701B71B3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C0E-BE89-49A6-8C76-95D11BB0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690-0E06-47B5-B345-65D0BB66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111-50AA-46DF-ADA1-0C467F15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48F-810B-44ED-A9F1-6C0E4EF2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24A-570D-4B4E-B9A6-784B6C46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9AC-E7B3-4D0D-BD71-DED1F542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341C-DFA5-40E0-BD60-7CC9850C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EED-7E55-4985-9AD1-0DA52ED7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2E3-1B54-464D-A632-C500D121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563-0EF0-48E3-9F16-F4740F3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F3E-15C4-44B4-9738-0764DE5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D8A2-32C8-49A6-956F-B3C7C4B5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0" y="533520"/>
            <a:ext cx="40831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144792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secting a line means dividing the line exactly in half. Usually we measure the dist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3424320"/>
            <a:ext cx="462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7560" y="41860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2240" y="41860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756440" y="2978640"/>
            <a:ext cx="268200" cy="2063520"/>
          </a:xfrm>
          <a:custGeom>
            <a:avLst/>
            <a:gdLst>
              <a:gd name="textAreaLeft" fmla="*/ 171360 w 268200"/>
              <a:gd name="textAreaRight" fmla="*/ 268560 w 268200"/>
              <a:gd name="textAreaTop" fmla="*/ 53640 h 2063520"/>
              <a:gd name="textAreaBottom" fmla="*/ 2009880 h 206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12400" y="2991240"/>
            <a:ext cx="268200" cy="2063880"/>
          </a:xfrm>
          <a:custGeom>
            <a:avLst/>
            <a:gdLst>
              <a:gd name="textAreaLeft" fmla="*/ 171360 w 268200"/>
              <a:gd name="textAreaRight" fmla="*/ 268560 w 268200"/>
              <a:gd name="textAreaTop" fmla="*/ 53640 h 2063880"/>
              <a:gd name="textAreaBottom" fmla="*/ 2010240 h 206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978440" y="3065040"/>
            <a:ext cx="0" cy="6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922480" y="1447920"/>
            <a:ext cx="0" cy="22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843120" y="3065040"/>
            <a:ext cx="0" cy="67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22480" y="2921040"/>
            <a:ext cx="50508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21040" y="2666880"/>
            <a:ext cx="782640" cy="755640"/>
          </a:xfrm>
          <a:custGeom>
            <a:avLst/>
            <a:gdLst/>
            <a:ahLst/>
            <a:rect l="l" t="t" r="r" b="b"/>
            <a:pathLst>
              <a:path w="493" h="476">
                <a:moveTo>
                  <a:pt x="0" y="0"/>
                </a:moveTo>
                <a:cubicBezTo>
                  <a:pt x="29" y="5"/>
                  <a:pt x="119" y="8"/>
                  <a:pt x="177" y="31"/>
                </a:cubicBezTo>
                <a:cubicBezTo>
                  <a:pt x="235" y="54"/>
                  <a:pt x="298" y="92"/>
                  <a:pt x="346" y="139"/>
                </a:cubicBezTo>
                <a:cubicBezTo>
                  <a:pt x="394" y="186"/>
                  <a:pt x="438" y="258"/>
                  <a:pt x="462" y="314"/>
                </a:cubicBezTo>
                <a:cubicBezTo>
                  <a:pt x="486" y="370"/>
                  <a:pt x="487" y="442"/>
                  <a:pt x="493" y="476"/>
                </a:cubicBezTo>
              </a:path>
            </a:pathLst>
          </a:custGeom>
          <a:noFill/>
          <a:ln w="9360">
            <a:solidFill>
              <a:srgbClr val="ff66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86400" y="306540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 can be done geometrically. This will be important when creating lines at 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16207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. Draw the line and mark of the leng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0" y="533520"/>
            <a:ext cx="40831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0" y="533520"/>
            <a:ext cx="40831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4360" y="3672000"/>
            <a:ext cx="4464000" cy="249120"/>
            <a:chOff x="684360" y="3672000"/>
            <a:chExt cx="4464000" cy="249120"/>
          </a:xfrm>
        </p:grpSpPr>
        <p:sp>
          <p:nvSpPr>
            <p:cNvPr id="61" name=""/>
            <p:cNvSpPr/>
            <p:nvPr/>
          </p:nvSpPr>
          <p:spPr>
            <a:xfrm>
              <a:off x="684360" y="3789360"/>
              <a:ext cx="44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91040" y="36813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58960" y="367200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66880" y="2325600"/>
            <a:ext cx="533520" cy="2916360"/>
          </a:xfrm>
          <a:custGeom>
            <a:avLst/>
            <a:gdLst/>
            <a:ahLst/>
            <a:rect l="l" t="t" r="r" b="b"/>
            <a:pathLst>
              <a:path w="336" h="1837">
                <a:moveTo>
                  <a:pt x="328" y="0"/>
                </a:moveTo>
                <a:cubicBezTo>
                  <a:pt x="294" y="55"/>
                  <a:pt x="194" y="179"/>
                  <a:pt x="126" y="333"/>
                </a:cubicBezTo>
                <a:cubicBezTo>
                  <a:pt x="58" y="487"/>
                  <a:pt x="0" y="737"/>
                  <a:pt x="2" y="921"/>
                </a:cubicBezTo>
                <a:cubicBezTo>
                  <a:pt x="4" y="1105"/>
                  <a:pt x="54" y="1309"/>
                  <a:pt x="104" y="1445"/>
                </a:cubicBezTo>
                <a:cubicBezTo>
                  <a:pt x="154" y="1581"/>
                  <a:pt x="216" y="1667"/>
                  <a:pt x="258" y="1735"/>
                </a:cubicBezTo>
                <a:cubicBezTo>
                  <a:pt x="300" y="1803"/>
                  <a:pt x="320" y="1816"/>
                  <a:pt x="336" y="183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43120" y="2314440"/>
            <a:ext cx="533520" cy="2928960"/>
          </a:xfrm>
          <a:custGeom>
            <a:avLst/>
            <a:gdLst/>
            <a:ahLst/>
            <a:rect l="l" t="t" r="r" b="b"/>
            <a:pathLst>
              <a:path w="336" h="1845">
                <a:moveTo>
                  <a:pt x="9" y="0"/>
                </a:moveTo>
                <a:cubicBezTo>
                  <a:pt x="43" y="56"/>
                  <a:pt x="146" y="179"/>
                  <a:pt x="215" y="336"/>
                </a:cubicBezTo>
                <a:cubicBezTo>
                  <a:pt x="284" y="493"/>
                  <a:pt x="336" y="745"/>
                  <a:pt x="334" y="929"/>
                </a:cubicBezTo>
                <a:cubicBezTo>
                  <a:pt x="332" y="1113"/>
                  <a:pt x="282" y="1317"/>
                  <a:pt x="232" y="1453"/>
                </a:cubicBezTo>
                <a:cubicBezTo>
                  <a:pt x="182" y="1589"/>
                  <a:pt x="120" y="1675"/>
                  <a:pt x="78" y="1743"/>
                </a:cubicBezTo>
                <a:cubicBezTo>
                  <a:pt x="36" y="1811"/>
                  <a:pt x="16" y="1824"/>
                  <a:pt x="0" y="184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2278080"/>
            <a:ext cx="320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. Open a compass out to more than half th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618840" y="367560"/>
            <a:ext cx="4946760" cy="4586040"/>
            <a:chOff x="-618840" y="367560"/>
            <a:chExt cx="4946760" cy="4586040"/>
          </a:xfrm>
        </p:grpSpPr>
        <p:sp>
          <p:nvSpPr>
            <p:cNvPr id="68" name=""/>
            <p:cNvSpPr/>
            <p:nvPr/>
          </p:nvSpPr>
          <p:spPr>
            <a:xfrm flipH="1" rot="1917000">
              <a:off x="-157680" y="1212840"/>
              <a:ext cx="4024080" cy="2895120"/>
            </a:xfrm>
            <a:custGeom>
              <a:avLst/>
              <a:gdLst/>
              <a:ahLst/>
              <a:rect l="l" t="t" r="r" b="b"/>
              <a:pathLst>
                <a:path w="2085" h="2727">
                  <a:moveTo>
                    <a:pt x="0" y="2262"/>
                  </a:moveTo>
                  <a:lnTo>
                    <a:pt x="336" y="2022"/>
                  </a:lnTo>
                  <a:lnTo>
                    <a:pt x="480" y="1885"/>
                  </a:lnTo>
                  <a:lnTo>
                    <a:pt x="589" y="1959"/>
                  </a:lnTo>
                  <a:lnTo>
                    <a:pt x="1536" y="822"/>
                  </a:lnTo>
                  <a:lnTo>
                    <a:pt x="1182" y="2727"/>
                  </a:lnTo>
                  <a:lnTo>
                    <a:pt x="1344" y="2502"/>
                  </a:lnTo>
                  <a:lnTo>
                    <a:pt x="1776" y="822"/>
                  </a:lnTo>
                  <a:lnTo>
                    <a:pt x="1920" y="534"/>
                  </a:lnTo>
                  <a:lnTo>
                    <a:pt x="1895" y="453"/>
                  </a:lnTo>
                  <a:lnTo>
                    <a:pt x="2064" y="150"/>
                  </a:lnTo>
                  <a:cubicBezTo>
                    <a:pt x="2085" y="81"/>
                    <a:pt x="2057" y="58"/>
                    <a:pt x="2024" y="40"/>
                  </a:cubicBezTo>
                  <a:cubicBezTo>
                    <a:pt x="1991" y="22"/>
                    <a:pt x="1922" y="0"/>
                    <a:pt x="1864" y="44"/>
                  </a:cubicBezTo>
                  <a:lnTo>
                    <a:pt x="1667" y="321"/>
                  </a:lnTo>
                  <a:lnTo>
                    <a:pt x="1603" y="332"/>
                  </a:lnTo>
                  <a:lnTo>
                    <a:pt x="1413" y="567"/>
                  </a:lnTo>
                  <a:lnTo>
                    <a:pt x="1406" y="688"/>
                  </a:lnTo>
                  <a:lnTo>
                    <a:pt x="822" y="1370"/>
                  </a:lnTo>
                  <a:lnTo>
                    <a:pt x="747" y="1249"/>
                  </a:lnTo>
                  <a:lnTo>
                    <a:pt x="624" y="1254"/>
                  </a:lnTo>
                  <a:lnTo>
                    <a:pt x="459" y="1427"/>
                  </a:lnTo>
                  <a:lnTo>
                    <a:pt x="278" y="1639"/>
                  </a:lnTo>
                  <a:lnTo>
                    <a:pt x="278" y="1685"/>
                  </a:lnTo>
                  <a:lnTo>
                    <a:pt x="144" y="1830"/>
                  </a:lnTo>
                  <a:lnTo>
                    <a:pt x="0" y="226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1917000">
              <a:off x="967680" y="941400"/>
              <a:ext cx="432360" cy="156960"/>
            </a:xfrm>
            <a:custGeom>
              <a:avLst/>
              <a:gdLst/>
              <a:ahLst/>
              <a:rect l="l" t="t" r="r" b="b"/>
              <a:pathLst>
                <a:path w="224" h="148">
                  <a:moveTo>
                    <a:pt x="0" y="0"/>
                  </a:moveTo>
                  <a:cubicBezTo>
                    <a:pt x="19" y="9"/>
                    <a:pt x="80" y="28"/>
                    <a:pt x="117" y="53"/>
                  </a:cubicBezTo>
                  <a:cubicBezTo>
                    <a:pt x="154" y="78"/>
                    <a:pt x="202" y="128"/>
                    <a:pt x="224" y="1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1917000">
              <a:off x="915120" y="1079280"/>
              <a:ext cx="774000" cy="51228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0" y="243"/>
                  </a:moveTo>
                  <a:lnTo>
                    <a:pt x="0" y="482"/>
                  </a:lnTo>
                  <a:lnTo>
                    <a:pt x="246" y="402"/>
                  </a:lnTo>
                  <a:lnTo>
                    <a:pt x="401" y="144"/>
                  </a:lnTo>
                  <a:cubicBezTo>
                    <a:pt x="392" y="80"/>
                    <a:pt x="256" y="0"/>
                    <a:pt x="189" y="16"/>
                  </a:cubicBezTo>
                  <a:lnTo>
                    <a:pt x="0" y="243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1917000">
              <a:off x="599400" y="1559520"/>
              <a:ext cx="828000" cy="1790640"/>
            </a:xfrm>
            <a:custGeom>
              <a:avLst/>
              <a:gdLst/>
              <a:ahLst/>
              <a:rect l="l" t="t" r="r" b="b"/>
              <a:pathLst>
                <a:path w="429" h="1687">
                  <a:moveTo>
                    <a:pt x="311" y="46"/>
                  </a:moveTo>
                  <a:lnTo>
                    <a:pt x="0" y="1679"/>
                  </a:lnTo>
                  <a:lnTo>
                    <a:pt x="46" y="1687"/>
                  </a:lnTo>
                  <a:lnTo>
                    <a:pt x="429" y="0"/>
                  </a:lnTo>
                  <a:lnTo>
                    <a:pt x="311" y="46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917000">
              <a:off x="476280" y="1490400"/>
              <a:ext cx="840960" cy="1833840"/>
            </a:xfrm>
            <a:custGeom>
              <a:avLst/>
              <a:gdLst/>
              <a:ahLst/>
              <a:rect l="l" t="t" r="r" b="b"/>
              <a:pathLst>
                <a:path w="436" h="1727">
                  <a:moveTo>
                    <a:pt x="390" y="0"/>
                  </a:moveTo>
                  <a:lnTo>
                    <a:pt x="0" y="1690"/>
                  </a:lnTo>
                  <a:lnTo>
                    <a:pt x="29" y="1727"/>
                  </a:lnTo>
                  <a:lnTo>
                    <a:pt x="436" y="27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1917000">
              <a:off x="839520" y="1077120"/>
              <a:ext cx="351000" cy="301680"/>
            </a:xfrm>
            <a:custGeom>
              <a:avLst/>
              <a:gdLst/>
              <a:ahLst/>
              <a:rect l="l" t="t" r="r" b="b"/>
              <a:pathLst>
                <a:path w="182" h="284">
                  <a:moveTo>
                    <a:pt x="148" y="0"/>
                  </a:moveTo>
                  <a:lnTo>
                    <a:pt x="0" y="250"/>
                  </a:lnTo>
                  <a:lnTo>
                    <a:pt x="53" y="284"/>
                  </a:lnTo>
                  <a:lnTo>
                    <a:pt x="182" y="42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1917000">
              <a:off x="776520" y="546840"/>
              <a:ext cx="488520" cy="384840"/>
            </a:xfrm>
            <a:custGeom>
              <a:avLst/>
              <a:gdLst/>
              <a:ahLst/>
              <a:rect l="l" t="t" r="r" b="b"/>
              <a:pathLst>
                <a:path w="253" h="362">
                  <a:moveTo>
                    <a:pt x="203" y="0"/>
                  </a:moveTo>
                  <a:lnTo>
                    <a:pt x="0" y="297"/>
                  </a:lnTo>
                  <a:lnTo>
                    <a:pt x="72" y="362"/>
                  </a:lnTo>
                  <a:lnTo>
                    <a:pt x="231" y="80"/>
                  </a:lnTo>
                  <a:cubicBezTo>
                    <a:pt x="253" y="20"/>
                    <a:pt x="203" y="0"/>
                    <a:pt x="203" y="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1917000">
              <a:off x="908640" y="613440"/>
              <a:ext cx="565200" cy="325800"/>
            </a:xfrm>
            <a:custGeom>
              <a:avLst/>
              <a:gdLst/>
              <a:ahLst/>
              <a:rect l="l" t="t" r="r" b="b"/>
              <a:pathLst>
                <a:path w="293" h="307">
                  <a:moveTo>
                    <a:pt x="171" y="22"/>
                  </a:moveTo>
                  <a:lnTo>
                    <a:pt x="0" y="273"/>
                  </a:lnTo>
                  <a:lnTo>
                    <a:pt x="88" y="307"/>
                  </a:lnTo>
                  <a:lnTo>
                    <a:pt x="293" y="19"/>
                  </a:lnTo>
                  <a:lnTo>
                    <a:pt x="228" y="0"/>
                  </a:lnTo>
                  <a:lnTo>
                    <a:pt x="171" y="22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39720" y="324828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1917000">
              <a:off x="2553120" y="3568680"/>
              <a:ext cx="370440" cy="15264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0"/>
                  </a:moveTo>
                  <a:cubicBezTo>
                    <a:pt x="18" y="7"/>
                    <a:pt x="78" y="19"/>
                    <a:pt x="110" y="43"/>
                  </a:cubicBezTo>
                  <a:cubicBezTo>
                    <a:pt x="142" y="67"/>
                    <a:pt x="175" y="123"/>
                    <a:pt x="19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486520" y="3611880"/>
              <a:ext cx="54000" cy="8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1917000">
              <a:off x="2039400" y="3030840"/>
              <a:ext cx="667440" cy="437400"/>
            </a:xfrm>
            <a:custGeom>
              <a:avLst/>
              <a:gdLst/>
              <a:ahLst/>
              <a:rect l="l" t="t" r="r" b="b"/>
              <a:pathLst>
                <a:path w="346" h="412">
                  <a:moveTo>
                    <a:pt x="0" y="412"/>
                  </a:moveTo>
                  <a:lnTo>
                    <a:pt x="3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1917000">
              <a:off x="2917440" y="4314960"/>
              <a:ext cx="132840" cy="7092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0" y="0"/>
                  </a:moveTo>
                  <a:cubicBezTo>
                    <a:pt x="9" y="4"/>
                    <a:pt x="42" y="10"/>
                    <a:pt x="54" y="21"/>
                  </a:cubicBezTo>
                  <a:cubicBezTo>
                    <a:pt x="66" y="32"/>
                    <a:pt x="66" y="58"/>
                    <a:pt x="69" y="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1917000">
              <a:off x="2391480" y="3206520"/>
              <a:ext cx="366480" cy="14004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0" y="0"/>
                  </a:moveTo>
                  <a:cubicBezTo>
                    <a:pt x="10" y="2"/>
                    <a:pt x="45" y="8"/>
                    <a:pt x="63" y="14"/>
                  </a:cubicBezTo>
                  <a:cubicBezTo>
                    <a:pt x="81" y="20"/>
                    <a:pt x="94" y="24"/>
                    <a:pt x="111" y="37"/>
                  </a:cubicBezTo>
                  <a:cubicBezTo>
                    <a:pt x="128" y="50"/>
                    <a:pt x="155" y="76"/>
                    <a:pt x="168" y="92"/>
                  </a:cubicBezTo>
                  <a:cubicBezTo>
                    <a:pt x="181" y="108"/>
                    <a:pt x="186" y="124"/>
                    <a:pt x="190" y="1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rot="1917000">
              <a:off x="1145880" y="2062800"/>
              <a:ext cx="1783080" cy="1195560"/>
            </a:xfrm>
            <a:custGeom>
              <a:avLst/>
              <a:gdLst/>
              <a:ahLst/>
              <a:rect l="l" t="t" r="r" b="b"/>
              <a:pathLst>
                <a:path w="924" h="1126">
                  <a:moveTo>
                    <a:pt x="921" y="0"/>
                  </a:moveTo>
                  <a:lnTo>
                    <a:pt x="924" y="114"/>
                  </a:lnTo>
                  <a:lnTo>
                    <a:pt x="72" y="1126"/>
                  </a:lnTo>
                  <a:lnTo>
                    <a:pt x="0" y="1081"/>
                  </a:lnTo>
                  <a:lnTo>
                    <a:pt x="921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1917000">
              <a:off x="2329920" y="3563280"/>
              <a:ext cx="150480" cy="13860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0" y="70"/>
                  </a:moveTo>
                  <a:lnTo>
                    <a:pt x="78" y="131"/>
                  </a:lnTo>
                  <a:lnTo>
                    <a:pt x="78" y="55"/>
                  </a:lnTo>
                  <a:lnTo>
                    <a:pt x="2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rot="1917000">
              <a:off x="960840" y="2087280"/>
              <a:ext cx="1777320" cy="1175760"/>
            </a:xfrm>
            <a:custGeom>
              <a:avLst/>
              <a:gdLst/>
              <a:ahLst/>
              <a:rect l="l" t="t" r="r" b="b"/>
              <a:pathLst>
                <a:path w="921" h="1107">
                  <a:moveTo>
                    <a:pt x="7" y="1027"/>
                  </a:moveTo>
                  <a:lnTo>
                    <a:pt x="0" y="1107"/>
                  </a:lnTo>
                  <a:lnTo>
                    <a:pt x="921" y="0"/>
                  </a:lnTo>
                  <a:lnTo>
                    <a:pt x="864" y="23"/>
                  </a:lnTo>
                  <a:lnTo>
                    <a:pt x="7" y="1027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rot="1917000">
              <a:off x="2532600" y="3573720"/>
              <a:ext cx="337320" cy="24192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4" y="0"/>
                  </a:moveTo>
                  <a:cubicBezTo>
                    <a:pt x="19" y="1"/>
                    <a:pt x="67" y="15"/>
                    <a:pt x="93" y="36"/>
                  </a:cubicBezTo>
                  <a:cubicBezTo>
                    <a:pt x="119" y="57"/>
                    <a:pt x="149" y="98"/>
                    <a:pt x="163" y="129"/>
                  </a:cubicBezTo>
                  <a:lnTo>
                    <a:pt x="175" y="224"/>
                  </a:lnTo>
                  <a:lnTo>
                    <a:pt x="152" y="228"/>
                  </a:lnTo>
                  <a:cubicBezTo>
                    <a:pt x="152" y="228"/>
                    <a:pt x="150" y="161"/>
                    <a:pt x="143" y="139"/>
                  </a:cubicBezTo>
                  <a:cubicBezTo>
                    <a:pt x="135" y="117"/>
                    <a:pt x="120" y="106"/>
                    <a:pt x="108" y="93"/>
                  </a:cubicBezTo>
                  <a:cubicBezTo>
                    <a:pt x="96" y="80"/>
                    <a:pt x="87" y="71"/>
                    <a:pt x="69" y="61"/>
                  </a:cubicBezTo>
                  <a:lnTo>
                    <a:pt x="0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917000">
              <a:off x="2330280" y="3276000"/>
              <a:ext cx="635040" cy="351360"/>
            </a:xfrm>
            <a:custGeom>
              <a:avLst/>
              <a:gdLst/>
              <a:ahLst/>
              <a:rect l="l" t="t" r="r" b="b"/>
              <a:pathLst>
                <a:path w="329" h="331">
                  <a:moveTo>
                    <a:pt x="154" y="10"/>
                  </a:moveTo>
                  <a:cubicBezTo>
                    <a:pt x="154" y="10"/>
                    <a:pt x="77" y="104"/>
                    <a:pt x="0" y="198"/>
                  </a:cubicBezTo>
                  <a:cubicBezTo>
                    <a:pt x="71" y="219"/>
                    <a:pt x="122" y="255"/>
                    <a:pt x="169" y="331"/>
                  </a:cubicBezTo>
                  <a:cubicBezTo>
                    <a:pt x="249" y="237"/>
                    <a:pt x="329" y="136"/>
                    <a:pt x="329" y="136"/>
                  </a:cubicBezTo>
                  <a:cubicBezTo>
                    <a:pt x="326" y="84"/>
                    <a:pt x="209" y="0"/>
                    <a:pt x="15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917000">
              <a:off x="2711520" y="3762000"/>
              <a:ext cx="396000" cy="197280"/>
            </a:xfrm>
            <a:custGeom>
              <a:avLst/>
              <a:gdLst/>
              <a:ahLst/>
              <a:rect l="l" t="t" r="r" b="b"/>
              <a:pathLst>
                <a:path w="205" h="186">
                  <a:moveTo>
                    <a:pt x="148" y="0"/>
                  </a:moveTo>
                  <a:cubicBezTo>
                    <a:pt x="81" y="67"/>
                    <a:pt x="30" y="105"/>
                    <a:pt x="15" y="133"/>
                  </a:cubicBezTo>
                  <a:cubicBezTo>
                    <a:pt x="0" y="161"/>
                    <a:pt x="25" y="186"/>
                    <a:pt x="57" y="167"/>
                  </a:cubicBezTo>
                  <a:cubicBezTo>
                    <a:pt x="91" y="150"/>
                    <a:pt x="127" y="97"/>
                    <a:pt x="205" y="22"/>
                  </a:cubicBezTo>
                  <a:cubicBezTo>
                    <a:pt x="183" y="1"/>
                    <a:pt x="177" y="7"/>
                    <a:pt x="148" y="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917000">
              <a:off x="2574000" y="3718080"/>
              <a:ext cx="408600" cy="229320"/>
            </a:xfrm>
            <a:custGeom>
              <a:avLst/>
              <a:gdLst/>
              <a:ahLst/>
              <a:rect l="l" t="t" r="r" b="b"/>
              <a:pathLst>
                <a:path w="212" h="216">
                  <a:moveTo>
                    <a:pt x="155" y="0"/>
                  </a:moveTo>
                  <a:lnTo>
                    <a:pt x="14" y="141"/>
                  </a:lnTo>
                  <a:cubicBezTo>
                    <a:pt x="0" y="175"/>
                    <a:pt x="38" y="216"/>
                    <a:pt x="71" y="202"/>
                  </a:cubicBezTo>
                  <a:lnTo>
                    <a:pt x="212" y="57"/>
                  </a:lnTo>
                  <a:cubicBezTo>
                    <a:pt x="212" y="23"/>
                    <a:pt x="183" y="15"/>
                    <a:pt x="155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917000">
              <a:off x="2491920" y="3735360"/>
              <a:ext cx="345240" cy="246960"/>
            </a:xfrm>
            <a:custGeom>
              <a:avLst/>
              <a:gdLst/>
              <a:ahLst/>
              <a:rect l="l" t="t" r="r" b="b"/>
              <a:pathLst>
                <a:path w="179" h="233">
                  <a:moveTo>
                    <a:pt x="158" y="0"/>
                  </a:moveTo>
                  <a:cubicBezTo>
                    <a:pt x="162" y="8"/>
                    <a:pt x="179" y="66"/>
                    <a:pt x="168" y="102"/>
                  </a:cubicBezTo>
                  <a:lnTo>
                    <a:pt x="37" y="226"/>
                  </a:lnTo>
                  <a:cubicBezTo>
                    <a:pt x="12" y="233"/>
                    <a:pt x="0" y="180"/>
                    <a:pt x="20" y="142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917000">
              <a:off x="2699280" y="3967200"/>
              <a:ext cx="426600" cy="316080"/>
            </a:xfrm>
            <a:custGeom>
              <a:avLst/>
              <a:gdLst/>
              <a:ahLst/>
              <a:rect l="l" t="t" r="r" b="b"/>
              <a:pathLst>
                <a:path w="221" h="298">
                  <a:moveTo>
                    <a:pt x="80" y="9"/>
                  </a:moveTo>
                  <a:cubicBezTo>
                    <a:pt x="99" y="36"/>
                    <a:pt x="103" y="38"/>
                    <a:pt x="139" y="36"/>
                  </a:cubicBezTo>
                  <a:cubicBezTo>
                    <a:pt x="160" y="82"/>
                    <a:pt x="173" y="78"/>
                    <a:pt x="204" y="95"/>
                  </a:cubicBezTo>
                  <a:cubicBezTo>
                    <a:pt x="219" y="118"/>
                    <a:pt x="196" y="144"/>
                    <a:pt x="221" y="178"/>
                  </a:cubicBezTo>
                  <a:cubicBezTo>
                    <a:pt x="199" y="211"/>
                    <a:pt x="134" y="240"/>
                    <a:pt x="59" y="298"/>
                  </a:cubicBezTo>
                  <a:cubicBezTo>
                    <a:pt x="38" y="264"/>
                    <a:pt x="40" y="264"/>
                    <a:pt x="0" y="252"/>
                  </a:cubicBezTo>
                  <a:cubicBezTo>
                    <a:pt x="39" y="136"/>
                    <a:pt x="83" y="0"/>
                    <a:pt x="80" y="9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917000">
              <a:off x="2355120" y="3011040"/>
              <a:ext cx="447480" cy="181440"/>
            </a:xfrm>
            <a:custGeom>
              <a:avLst/>
              <a:gdLst/>
              <a:ahLst/>
              <a:rect l="l" t="t" r="r" b="b"/>
              <a:pathLst>
                <a:path w="232" h="171">
                  <a:moveTo>
                    <a:pt x="145" y="2"/>
                  </a:moveTo>
                  <a:cubicBezTo>
                    <a:pt x="145" y="2"/>
                    <a:pt x="68" y="79"/>
                    <a:pt x="0" y="154"/>
                  </a:cubicBezTo>
                  <a:cubicBezTo>
                    <a:pt x="34" y="162"/>
                    <a:pt x="36" y="161"/>
                    <a:pt x="76" y="171"/>
                  </a:cubicBezTo>
                  <a:lnTo>
                    <a:pt x="232" y="0"/>
                  </a:lnTo>
                  <a:lnTo>
                    <a:pt x="145" y="2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917000">
              <a:off x="2247840" y="2931840"/>
              <a:ext cx="387720" cy="248400"/>
            </a:xfrm>
            <a:custGeom>
              <a:avLst/>
              <a:gdLst/>
              <a:ahLst/>
              <a:rect l="l" t="t" r="r" b="b"/>
              <a:pathLst>
                <a:path w="201" h="234">
                  <a:moveTo>
                    <a:pt x="159" y="0"/>
                  </a:moveTo>
                  <a:cubicBezTo>
                    <a:pt x="159" y="0"/>
                    <a:pt x="80" y="89"/>
                    <a:pt x="0" y="179"/>
                  </a:cubicBezTo>
                  <a:cubicBezTo>
                    <a:pt x="43" y="200"/>
                    <a:pt x="22" y="208"/>
                    <a:pt x="55" y="234"/>
                  </a:cubicBezTo>
                  <a:cubicBezTo>
                    <a:pt x="126" y="154"/>
                    <a:pt x="201" y="69"/>
                    <a:pt x="201" y="69"/>
                  </a:cubicBezTo>
                  <a:lnTo>
                    <a:pt x="159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917000">
              <a:off x="2175480" y="2957400"/>
              <a:ext cx="304920" cy="209520"/>
            </a:xfrm>
            <a:custGeom>
              <a:avLst/>
              <a:gdLst/>
              <a:ahLst/>
              <a:rect l="l" t="t" r="r" b="b"/>
              <a:pathLst>
                <a:path w="158" h="198">
                  <a:moveTo>
                    <a:pt x="141" y="0"/>
                  </a:moveTo>
                  <a:lnTo>
                    <a:pt x="158" y="29"/>
                  </a:lnTo>
                  <a:cubicBezTo>
                    <a:pt x="158" y="29"/>
                    <a:pt x="86" y="115"/>
                    <a:pt x="23" y="194"/>
                  </a:cubicBezTo>
                  <a:cubicBezTo>
                    <a:pt x="11" y="198"/>
                    <a:pt x="0" y="182"/>
                    <a:pt x="0" y="158"/>
                  </a:cubicBezTo>
                  <a:cubicBezTo>
                    <a:pt x="70" y="79"/>
                    <a:pt x="141" y="0"/>
                    <a:pt x="141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342160" y="201960"/>
            <a:ext cx="4302720" cy="3877560"/>
            <a:chOff x="2342160" y="201960"/>
            <a:chExt cx="4302720" cy="3877560"/>
          </a:xfrm>
        </p:grpSpPr>
        <p:sp>
          <p:nvSpPr>
            <p:cNvPr id="95" name=""/>
            <p:cNvSpPr/>
            <p:nvPr/>
          </p:nvSpPr>
          <p:spPr>
            <a:xfrm rot="21111600">
              <a:off x="2560680" y="458280"/>
              <a:ext cx="3865320" cy="3364200"/>
            </a:xfrm>
            <a:custGeom>
              <a:avLst/>
              <a:gdLst/>
              <a:ahLst/>
              <a:rect l="l" t="t" r="r" b="b"/>
              <a:pathLst>
                <a:path w="2085" h="2727">
                  <a:moveTo>
                    <a:pt x="0" y="2262"/>
                  </a:moveTo>
                  <a:lnTo>
                    <a:pt x="336" y="2022"/>
                  </a:lnTo>
                  <a:lnTo>
                    <a:pt x="480" y="1885"/>
                  </a:lnTo>
                  <a:lnTo>
                    <a:pt x="589" y="1959"/>
                  </a:lnTo>
                  <a:lnTo>
                    <a:pt x="1536" y="822"/>
                  </a:lnTo>
                  <a:lnTo>
                    <a:pt x="1182" y="2727"/>
                  </a:lnTo>
                  <a:lnTo>
                    <a:pt x="1344" y="2502"/>
                  </a:lnTo>
                  <a:lnTo>
                    <a:pt x="1776" y="822"/>
                  </a:lnTo>
                  <a:lnTo>
                    <a:pt x="1920" y="534"/>
                  </a:lnTo>
                  <a:lnTo>
                    <a:pt x="1895" y="453"/>
                  </a:lnTo>
                  <a:lnTo>
                    <a:pt x="2064" y="150"/>
                  </a:lnTo>
                  <a:cubicBezTo>
                    <a:pt x="2085" y="81"/>
                    <a:pt x="2057" y="58"/>
                    <a:pt x="2024" y="40"/>
                  </a:cubicBezTo>
                  <a:cubicBezTo>
                    <a:pt x="1991" y="22"/>
                    <a:pt x="1922" y="0"/>
                    <a:pt x="1864" y="44"/>
                  </a:cubicBezTo>
                  <a:lnTo>
                    <a:pt x="1667" y="321"/>
                  </a:lnTo>
                  <a:lnTo>
                    <a:pt x="1603" y="332"/>
                  </a:lnTo>
                  <a:lnTo>
                    <a:pt x="1413" y="567"/>
                  </a:lnTo>
                  <a:lnTo>
                    <a:pt x="1406" y="688"/>
                  </a:lnTo>
                  <a:lnTo>
                    <a:pt x="822" y="1370"/>
                  </a:lnTo>
                  <a:lnTo>
                    <a:pt x="747" y="1249"/>
                  </a:lnTo>
                  <a:lnTo>
                    <a:pt x="624" y="1254"/>
                  </a:lnTo>
                  <a:lnTo>
                    <a:pt x="459" y="1427"/>
                  </a:lnTo>
                  <a:lnTo>
                    <a:pt x="278" y="1639"/>
                  </a:lnTo>
                  <a:lnTo>
                    <a:pt x="278" y="1685"/>
                  </a:lnTo>
                  <a:lnTo>
                    <a:pt x="144" y="1830"/>
                  </a:lnTo>
                  <a:lnTo>
                    <a:pt x="0" y="2262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1111600">
              <a:off x="5481360" y="660960"/>
              <a:ext cx="415080" cy="182160"/>
            </a:xfrm>
            <a:custGeom>
              <a:avLst/>
              <a:gdLst/>
              <a:ahLst/>
              <a:rect l="l" t="t" r="r" b="b"/>
              <a:pathLst>
                <a:path w="224" h="148">
                  <a:moveTo>
                    <a:pt x="0" y="0"/>
                  </a:moveTo>
                  <a:cubicBezTo>
                    <a:pt x="19" y="9"/>
                    <a:pt x="80" y="28"/>
                    <a:pt x="117" y="53"/>
                  </a:cubicBezTo>
                  <a:cubicBezTo>
                    <a:pt x="154" y="78"/>
                    <a:pt x="202" y="128"/>
                    <a:pt x="224" y="1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1111600">
              <a:off x="5096880" y="727200"/>
              <a:ext cx="743760" cy="5947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0" y="243"/>
                  </a:moveTo>
                  <a:lnTo>
                    <a:pt x="0" y="482"/>
                  </a:lnTo>
                  <a:lnTo>
                    <a:pt x="246" y="402"/>
                  </a:lnTo>
                  <a:lnTo>
                    <a:pt x="401" y="144"/>
                  </a:lnTo>
                  <a:cubicBezTo>
                    <a:pt x="392" y="80"/>
                    <a:pt x="256" y="0"/>
                    <a:pt x="189" y="16"/>
                  </a:cubicBezTo>
                  <a:lnTo>
                    <a:pt x="0" y="243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21111600">
              <a:off x="4921920" y="1299240"/>
              <a:ext cx="795240" cy="2081160"/>
            </a:xfrm>
            <a:custGeom>
              <a:avLst/>
              <a:gdLst/>
              <a:ahLst/>
              <a:rect l="l" t="t" r="r" b="b"/>
              <a:pathLst>
                <a:path w="429" h="1687">
                  <a:moveTo>
                    <a:pt x="311" y="46"/>
                  </a:moveTo>
                  <a:lnTo>
                    <a:pt x="0" y="1679"/>
                  </a:lnTo>
                  <a:lnTo>
                    <a:pt x="46" y="1687"/>
                  </a:lnTo>
                  <a:lnTo>
                    <a:pt x="429" y="0"/>
                  </a:lnTo>
                  <a:lnTo>
                    <a:pt x="311" y="46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21111600">
              <a:off x="5037120" y="1282320"/>
              <a:ext cx="807840" cy="2130480"/>
            </a:xfrm>
            <a:custGeom>
              <a:avLst/>
              <a:gdLst/>
              <a:ahLst/>
              <a:rect l="l" t="t" r="r" b="b"/>
              <a:pathLst>
                <a:path w="436" h="1727">
                  <a:moveTo>
                    <a:pt x="390" y="0"/>
                  </a:moveTo>
                  <a:lnTo>
                    <a:pt x="0" y="1690"/>
                  </a:lnTo>
                  <a:lnTo>
                    <a:pt x="29" y="1727"/>
                  </a:lnTo>
                  <a:lnTo>
                    <a:pt x="436" y="27"/>
                  </a:lnTo>
                  <a:lnTo>
                    <a:pt x="39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1111600">
              <a:off x="5595480" y="877680"/>
              <a:ext cx="336960" cy="350280"/>
            </a:xfrm>
            <a:custGeom>
              <a:avLst/>
              <a:gdLst/>
              <a:ahLst/>
              <a:rect l="l" t="t" r="r" b="b"/>
              <a:pathLst>
                <a:path w="182" h="284">
                  <a:moveTo>
                    <a:pt x="148" y="0"/>
                  </a:moveTo>
                  <a:lnTo>
                    <a:pt x="0" y="250"/>
                  </a:lnTo>
                  <a:lnTo>
                    <a:pt x="53" y="284"/>
                  </a:lnTo>
                  <a:lnTo>
                    <a:pt x="182" y="42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1111600">
              <a:off x="5702040" y="315360"/>
              <a:ext cx="469080" cy="446760"/>
            </a:xfrm>
            <a:custGeom>
              <a:avLst/>
              <a:gdLst/>
              <a:ahLst/>
              <a:rect l="l" t="t" r="r" b="b"/>
              <a:pathLst>
                <a:path w="253" h="362">
                  <a:moveTo>
                    <a:pt x="203" y="0"/>
                  </a:moveTo>
                  <a:lnTo>
                    <a:pt x="0" y="297"/>
                  </a:lnTo>
                  <a:lnTo>
                    <a:pt x="72" y="362"/>
                  </a:lnTo>
                  <a:lnTo>
                    <a:pt x="231" y="80"/>
                  </a:lnTo>
                  <a:cubicBezTo>
                    <a:pt x="253" y="20"/>
                    <a:pt x="203" y="0"/>
                    <a:pt x="203" y="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111600">
              <a:off x="5499000" y="303840"/>
              <a:ext cx="542880" cy="378720"/>
            </a:xfrm>
            <a:custGeom>
              <a:avLst/>
              <a:gdLst/>
              <a:ahLst/>
              <a:rect l="l" t="t" r="r" b="b"/>
              <a:pathLst>
                <a:path w="293" h="307">
                  <a:moveTo>
                    <a:pt x="171" y="22"/>
                  </a:moveTo>
                  <a:lnTo>
                    <a:pt x="0" y="273"/>
                  </a:lnTo>
                  <a:lnTo>
                    <a:pt x="88" y="307"/>
                  </a:lnTo>
                  <a:lnTo>
                    <a:pt x="293" y="19"/>
                  </a:lnTo>
                  <a:lnTo>
                    <a:pt x="228" y="0"/>
                  </a:lnTo>
                  <a:lnTo>
                    <a:pt x="171" y="22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56600" y="2468160"/>
              <a:ext cx="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1111600">
              <a:off x="3166920" y="2647800"/>
              <a:ext cx="356040" cy="17748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0" y="0"/>
                  </a:moveTo>
                  <a:cubicBezTo>
                    <a:pt x="18" y="7"/>
                    <a:pt x="78" y="19"/>
                    <a:pt x="110" y="43"/>
                  </a:cubicBezTo>
                  <a:cubicBezTo>
                    <a:pt x="142" y="67"/>
                    <a:pt x="175" y="123"/>
                    <a:pt x="192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4120" y="2799360"/>
              <a:ext cx="1692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1111600">
              <a:off x="3494520" y="2247840"/>
              <a:ext cx="641160" cy="508320"/>
            </a:xfrm>
            <a:custGeom>
              <a:avLst/>
              <a:gdLst/>
              <a:ahLst/>
              <a:rect l="l" t="t" r="r" b="b"/>
              <a:pathLst>
                <a:path w="346" h="412">
                  <a:moveTo>
                    <a:pt x="0" y="412"/>
                  </a:moveTo>
                  <a:lnTo>
                    <a:pt x="34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21111600">
              <a:off x="2805120" y="3313080"/>
              <a:ext cx="127800" cy="82800"/>
            </a:xfrm>
            <a:custGeom>
              <a:avLst/>
              <a:gdLst/>
              <a:ahLst/>
              <a:rect l="l" t="t" r="r" b="b"/>
              <a:pathLst>
                <a:path w="69" h="67">
                  <a:moveTo>
                    <a:pt x="0" y="0"/>
                  </a:moveTo>
                  <a:cubicBezTo>
                    <a:pt x="9" y="4"/>
                    <a:pt x="42" y="10"/>
                    <a:pt x="54" y="21"/>
                  </a:cubicBezTo>
                  <a:cubicBezTo>
                    <a:pt x="66" y="32"/>
                    <a:pt x="66" y="58"/>
                    <a:pt x="69" y="6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111600">
              <a:off x="3449520" y="2349360"/>
              <a:ext cx="352080" cy="16272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0" y="0"/>
                  </a:moveTo>
                  <a:cubicBezTo>
                    <a:pt x="10" y="2"/>
                    <a:pt x="45" y="8"/>
                    <a:pt x="63" y="14"/>
                  </a:cubicBezTo>
                  <a:cubicBezTo>
                    <a:pt x="81" y="20"/>
                    <a:pt x="94" y="24"/>
                    <a:pt x="111" y="37"/>
                  </a:cubicBezTo>
                  <a:cubicBezTo>
                    <a:pt x="128" y="50"/>
                    <a:pt x="155" y="76"/>
                    <a:pt x="168" y="92"/>
                  </a:cubicBezTo>
                  <a:cubicBezTo>
                    <a:pt x="181" y="108"/>
                    <a:pt x="186" y="124"/>
                    <a:pt x="190" y="13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111600">
              <a:off x="3473280" y="1356120"/>
              <a:ext cx="1712880" cy="1389240"/>
            </a:xfrm>
            <a:custGeom>
              <a:avLst/>
              <a:gdLst/>
              <a:ahLst/>
              <a:rect l="l" t="t" r="r" b="b"/>
              <a:pathLst>
                <a:path w="924" h="1126">
                  <a:moveTo>
                    <a:pt x="921" y="0"/>
                  </a:moveTo>
                  <a:lnTo>
                    <a:pt x="924" y="114"/>
                  </a:lnTo>
                  <a:lnTo>
                    <a:pt x="72" y="1126"/>
                  </a:lnTo>
                  <a:lnTo>
                    <a:pt x="0" y="1081"/>
                  </a:lnTo>
                  <a:lnTo>
                    <a:pt x="921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21111600">
              <a:off x="3575520" y="2807280"/>
              <a:ext cx="144360" cy="16164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0" y="70"/>
                  </a:moveTo>
                  <a:lnTo>
                    <a:pt x="78" y="131"/>
                  </a:lnTo>
                  <a:lnTo>
                    <a:pt x="78" y="55"/>
                  </a:lnTo>
                  <a:lnTo>
                    <a:pt x="2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21111600">
              <a:off x="3638160" y="1475280"/>
              <a:ext cx="1707120" cy="1365840"/>
            </a:xfrm>
            <a:custGeom>
              <a:avLst/>
              <a:gdLst/>
              <a:ahLst/>
              <a:rect l="l" t="t" r="r" b="b"/>
              <a:pathLst>
                <a:path w="921" h="1107">
                  <a:moveTo>
                    <a:pt x="7" y="1027"/>
                  </a:moveTo>
                  <a:lnTo>
                    <a:pt x="0" y="1107"/>
                  </a:lnTo>
                  <a:lnTo>
                    <a:pt x="921" y="0"/>
                  </a:lnTo>
                  <a:lnTo>
                    <a:pt x="864" y="23"/>
                  </a:lnTo>
                  <a:lnTo>
                    <a:pt x="7" y="1027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1111600">
              <a:off x="3197520" y="2665800"/>
              <a:ext cx="324000" cy="28116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4" y="0"/>
                  </a:moveTo>
                  <a:cubicBezTo>
                    <a:pt x="19" y="1"/>
                    <a:pt x="67" y="15"/>
                    <a:pt x="93" y="36"/>
                  </a:cubicBezTo>
                  <a:cubicBezTo>
                    <a:pt x="119" y="57"/>
                    <a:pt x="149" y="98"/>
                    <a:pt x="163" y="129"/>
                  </a:cubicBezTo>
                  <a:lnTo>
                    <a:pt x="175" y="224"/>
                  </a:lnTo>
                  <a:lnTo>
                    <a:pt x="152" y="228"/>
                  </a:lnTo>
                  <a:cubicBezTo>
                    <a:pt x="152" y="228"/>
                    <a:pt x="150" y="161"/>
                    <a:pt x="143" y="139"/>
                  </a:cubicBezTo>
                  <a:cubicBezTo>
                    <a:pt x="135" y="117"/>
                    <a:pt x="120" y="106"/>
                    <a:pt x="108" y="93"/>
                  </a:cubicBezTo>
                  <a:cubicBezTo>
                    <a:pt x="96" y="80"/>
                    <a:pt x="87" y="71"/>
                    <a:pt x="69" y="61"/>
                  </a:cubicBezTo>
                  <a:lnTo>
                    <a:pt x="0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1111600">
              <a:off x="3191040" y="2374200"/>
              <a:ext cx="609840" cy="408240"/>
            </a:xfrm>
            <a:custGeom>
              <a:avLst/>
              <a:gdLst/>
              <a:ahLst/>
              <a:rect l="l" t="t" r="r" b="b"/>
              <a:pathLst>
                <a:path w="329" h="331">
                  <a:moveTo>
                    <a:pt x="154" y="10"/>
                  </a:moveTo>
                  <a:cubicBezTo>
                    <a:pt x="154" y="10"/>
                    <a:pt x="77" y="104"/>
                    <a:pt x="0" y="198"/>
                  </a:cubicBezTo>
                  <a:cubicBezTo>
                    <a:pt x="71" y="219"/>
                    <a:pt x="122" y="255"/>
                    <a:pt x="169" y="331"/>
                  </a:cubicBezTo>
                  <a:cubicBezTo>
                    <a:pt x="249" y="237"/>
                    <a:pt x="329" y="136"/>
                    <a:pt x="329" y="136"/>
                  </a:cubicBezTo>
                  <a:cubicBezTo>
                    <a:pt x="326" y="84"/>
                    <a:pt x="209" y="0"/>
                    <a:pt x="15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1111600">
              <a:off x="2923200" y="2763360"/>
              <a:ext cx="379800" cy="229320"/>
            </a:xfrm>
            <a:custGeom>
              <a:avLst/>
              <a:gdLst/>
              <a:ahLst/>
              <a:rect l="l" t="t" r="r" b="b"/>
              <a:pathLst>
                <a:path w="205" h="186">
                  <a:moveTo>
                    <a:pt x="148" y="0"/>
                  </a:moveTo>
                  <a:cubicBezTo>
                    <a:pt x="81" y="67"/>
                    <a:pt x="30" y="105"/>
                    <a:pt x="15" y="133"/>
                  </a:cubicBezTo>
                  <a:cubicBezTo>
                    <a:pt x="0" y="161"/>
                    <a:pt x="25" y="186"/>
                    <a:pt x="57" y="167"/>
                  </a:cubicBezTo>
                  <a:cubicBezTo>
                    <a:pt x="91" y="150"/>
                    <a:pt x="127" y="97"/>
                    <a:pt x="205" y="22"/>
                  </a:cubicBezTo>
                  <a:cubicBezTo>
                    <a:pt x="183" y="1"/>
                    <a:pt x="177" y="7"/>
                    <a:pt x="148" y="0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111600">
              <a:off x="3044520" y="2780280"/>
              <a:ext cx="392400" cy="266400"/>
            </a:xfrm>
            <a:custGeom>
              <a:avLst/>
              <a:gdLst/>
              <a:ahLst/>
              <a:rect l="l" t="t" r="r" b="b"/>
              <a:pathLst>
                <a:path w="212" h="216">
                  <a:moveTo>
                    <a:pt x="155" y="0"/>
                  </a:moveTo>
                  <a:lnTo>
                    <a:pt x="14" y="141"/>
                  </a:lnTo>
                  <a:cubicBezTo>
                    <a:pt x="0" y="175"/>
                    <a:pt x="38" y="216"/>
                    <a:pt x="71" y="202"/>
                  </a:cubicBezTo>
                  <a:lnTo>
                    <a:pt x="212" y="57"/>
                  </a:lnTo>
                  <a:cubicBezTo>
                    <a:pt x="212" y="23"/>
                    <a:pt x="183" y="15"/>
                    <a:pt x="155" y="0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1111600">
              <a:off x="3166560" y="2853000"/>
              <a:ext cx="331560" cy="287280"/>
            </a:xfrm>
            <a:custGeom>
              <a:avLst/>
              <a:gdLst/>
              <a:ahLst/>
              <a:rect l="l" t="t" r="r" b="b"/>
              <a:pathLst>
                <a:path w="179" h="233">
                  <a:moveTo>
                    <a:pt x="158" y="0"/>
                  </a:moveTo>
                  <a:cubicBezTo>
                    <a:pt x="162" y="8"/>
                    <a:pt x="179" y="66"/>
                    <a:pt x="168" y="102"/>
                  </a:cubicBezTo>
                  <a:lnTo>
                    <a:pt x="37" y="226"/>
                  </a:lnTo>
                  <a:cubicBezTo>
                    <a:pt x="12" y="233"/>
                    <a:pt x="0" y="180"/>
                    <a:pt x="20" y="142"/>
                  </a:cubicBezTo>
                  <a:lnTo>
                    <a:pt x="158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21111600">
              <a:off x="2809800" y="2970360"/>
              <a:ext cx="409320" cy="367560"/>
            </a:xfrm>
            <a:custGeom>
              <a:avLst/>
              <a:gdLst/>
              <a:ahLst/>
              <a:rect l="l" t="t" r="r" b="b"/>
              <a:pathLst>
                <a:path w="221" h="298">
                  <a:moveTo>
                    <a:pt x="80" y="9"/>
                  </a:moveTo>
                  <a:cubicBezTo>
                    <a:pt x="99" y="36"/>
                    <a:pt x="103" y="38"/>
                    <a:pt x="139" y="36"/>
                  </a:cubicBezTo>
                  <a:cubicBezTo>
                    <a:pt x="160" y="82"/>
                    <a:pt x="173" y="78"/>
                    <a:pt x="204" y="95"/>
                  </a:cubicBezTo>
                  <a:cubicBezTo>
                    <a:pt x="219" y="118"/>
                    <a:pt x="196" y="144"/>
                    <a:pt x="221" y="178"/>
                  </a:cubicBezTo>
                  <a:cubicBezTo>
                    <a:pt x="199" y="211"/>
                    <a:pt x="134" y="240"/>
                    <a:pt x="59" y="298"/>
                  </a:cubicBezTo>
                  <a:cubicBezTo>
                    <a:pt x="38" y="264"/>
                    <a:pt x="40" y="264"/>
                    <a:pt x="0" y="252"/>
                  </a:cubicBezTo>
                  <a:cubicBezTo>
                    <a:pt x="39" y="136"/>
                    <a:pt x="83" y="0"/>
                    <a:pt x="80" y="9"/>
                  </a:cubicBez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111600">
              <a:off x="3470400" y="2140560"/>
              <a:ext cx="429840" cy="210600"/>
            </a:xfrm>
            <a:custGeom>
              <a:avLst/>
              <a:gdLst/>
              <a:ahLst/>
              <a:rect l="l" t="t" r="r" b="b"/>
              <a:pathLst>
                <a:path w="232" h="171">
                  <a:moveTo>
                    <a:pt x="145" y="2"/>
                  </a:moveTo>
                  <a:cubicBezTo>
                    <a:pt x="145" y="2"/>
                    <a:pt x="68" y="79"/>
                    <a:pt x="0" y="154"/>
                  </a:cubicBezTo>
                  <a:cubicBezTo>
                    <a:pt x="34" y="162"/>
                    <a:pt x="36" y="161"/>
                    <a:pt x="76" y="171"/>
                  </a:cubicBezTo>
                  <a:lnTo>
                    <a:pt x="232" y="0"/>
                  </a:lnTo>
                  <a:lnTo>
                    <a:pt x="145" y="2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21111600">
              <a:off x="3637440" y="2121120"/>
              <a:ext cx="372240" cy="288720"/>
            </a:xfrm>
            <a:custGeom>
              <a:avLst/>
              <a:gdLst/>
              <a:ahLst/>
              <a:rect l="l" t="t" r="r" b="b"/>
              <a:pathLst>
                <a:path w="201" h="234">
                  <a:moveTo>
                    <a:pt x="159" y="0"/>
                  </a:moveTo>
                  <a:cubicBezTo>
                    <a:pt x="159" y="0"/>
                    <a:pt x="80" y="89"/>
                    <a:pt x="0" y="179"/>
                  </a:cubicBezTo>
                  <a:cubicBezTo>
                    <a:pt x="43" y="200"/>
                    <a:pt x="22" y="208"/>
                    <a:pt x="55" y="234"/>
                  </a:cubicBezTo>
                  <a:cubicBezTo>
                    <a:pt x="126" y="154"/>
                    <a:pt x="201" y="69"/>
                    <a:pt x="201" y="69"/>
                  </a:cubicBezTo>
                  <a:lnTo>
                    <a:pt x="159" y="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1111600">
              <a:off x="3776760" y="2206080"/>
              <a:ext cx="293040" cy="244080"/>
            </a:xfrm>
            <a:custGeom>
              <a:avLst/>
              <a:gdLst/>
              <a:ahLst/>
              <a:rect l="l" t="t" r="r" b="b"/>
              <a:pathLst>
                <a:path w="158" h="198">
                  <a:moveTo>
                    <a:pt x="141" y="0"/>
                  </a:moveTo>
                  <a:lnTo>
                    <a:pt x="158" y="29"/>
                  </a:lnTo>
                  <a:cubicBezTo>
                    <a:pt x="158" y="29"/>
                    <a:pt x="86" y="115"/>
                    <a:pt x="23" y="194"/>
                  </a:cubicBezTo>
                  <a:cubicBezTo>
                    <a:pt x="11" y="198"/>
                    <a:pt x="0" y="182"/>
                    <a:pt x="0" y="158"/>
                  </a:cubicBezTo>
                  <a:cubicBezTo>
                    <a:pt x="70" y="79"/>
                    <a:pt x="141" y="0"/>
                    <a:pt x="141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84360" y="2314440"/>
            <a:ext cx="4464000" cy="2928960"/>
            <a:chOff x="684360" y="2314440"/>
            <a:chExt cx="4464000" cy="2928960"/>
          </a:xfrm>
        </p:grpSpPr>
        <p:sp>
          <p:nvSpPr>
            <p:cNvPr id="122" name=""/>
            <p:cNvSpPr/>
            <p:nvPr/>
          </p:nvSpPr>
          <p:spPr>
            <a:xfrm>
              <a:off x="684360" y="3789360"/>
              <a:ext cx="44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91040" y="36813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8960" y="367200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66880" y="2325600"/>
              <a:ext cx="533520" cy="2916360"/>
            </a:xfrm>
            <a:custGeom>
              <a:avLst/>
              <a:gdLst/>
              <a:ahLst/>
              <a:rect l="l" t="t" r="r" b="b"/>
              <a:pathLst>
                <a:path w="336" h="1837">
                  <a:moveTo>
                    <a:pt x="328" y="0"/>
                  </a:moveTo>
                  <a:cubicBezTo>
                    <a:pt x="294" y="55"/>
                    <a:pt x="194" y="179"/>
                    <a:pt x="126" y="333"/>
                  </a:cubicBezTo>
                  <a:cubicBezTo>
                    <a:pt x="58" y="487"/>
                    <a:pt x="0" y="737"/>
                    <a:pt x="2" y="921"/>
                  </a:cubicBezTo>
                  <a:cubicBezTo>
                    <a:pt x="4" y="1105"/>
                    <a:pt x="54" y="1309"/>
                    <a:pt x="104" y="1445"/>
                  </a:cubicBezTo>
                  <a:cubicBezTo>
                    <a:pt x="154" y="1581"/>
                    <a:pt x="216" y="1667"/>
                    <a:pt x="258" y="1735"/>
                  </a:cubicBezTo>
                  <a:cubicBezTo>
                    <a:pt x="300" y="1803"/>
                    <a:pt x="320" y="1816"/>
                    <a:pt x="336" y="18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43120" y="2314440"/>
              <a:ext cx="533520" cy="2928960"/>
            </a:xfrm>
            <a:custGeom>
              <a:avLst/>
              <a:gdLst/>
              <a:ahLst/>
              <a:rect l="l" t="t" r="r" b="b"/>
              <a:pathLst>
                <a:path w="336" h="1845">
                  <a:moveTo>
                    <a:pt x="9" y="0"/>
                  </a:moveTo>
                  <a:cubicBezTo>
                    <a:pt x="43" y="56"/>
                    <a:pt x="146" y="179"/>
                    <a:pt x="215" y="336"/>
                  </a:cubicBezTo>
                  <a:cubicBezTo>
                    <a:pt x="284" y="493"/>
                    <a:pt x="336" y="745"/>
                    <a:pt x="334" y="929"/>
                  </a:cubicBezTo>
                  <a:cubicBezTo>
                    <a:pt x="332" y="1113"/>
                    <a:pt x="282" y="1317"/>
                    <a:pt x="232" y="1453"/>
                  </a:cubicBezTo>
                  <a:cubicBezTo>
                    <a:pt x="182" y="1589"/>
                    <a:pt x="120" y="1675"/>
                    <a:pt x="78" y="1743"/>
                  </a:cubicBezTo>
                  <a:cubicBezTo>
                    <a:pt x="36" y="1811"/>
                    <a:pt x="16" y="1824"/>
                    <a:pt x="0" y="18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562720" y="227808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. Draw a perpendicular line between the two intersecting ar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22480" y="2325600"/>
            <a:ext cx="0" cy="29163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7560" y="55306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2240" y="5530680"/>
            <a:ext cx="11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1756440" y="4410360"/>
            <a:ext cx="268200" cy="2063520"/>
          </a:xfrm>
          <a:custGeom>
            <a:avLst/>
            <a:gdLst>
              <a:gd name="textAreaLeft" fmla="*/ 171360 w 268200"/>
              <a:gd name="textAreaRight" fmla="*/ 268560 w 268200"/>
              <a:gd name="textAreaTop" fmla="*/ 53640 h 2063520"/>
              <a:gd name="textAreaBottom" fmla="*/ 2009880 h 206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812400" y="4405680"/>
            <a:ext cx="268200" cy="2063880"/>
          </a:xfrm>
          <a:custGeom>
            <a:avLst/>
            <a:gdLst>
              <a:gd name="textAreaLeft" fmla="*/ 171360 w 268200"/>
              <a:gd name="textAreaRight" fmla="*/ 268560 w 268200"/>
              <a:gd name="textAreaTop" fmla="*/ 53640 h 2063880"/>
              <a:gd name="textAreaBottom" fmla="*/ 2010240 h 206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91040" y="3976560"/>
            <a:ext cx="0" cy="12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960" y="3995640"/>
            <a:ext cx="0" cy="126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3995640"/>
            <a:ext cx="322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wo sides are equal and you have bisected the line and created a line at 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286000" y="533520"/>
            <a:ext cx="4083120" cy="6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 Li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23:37:51Z</dcterms:created>
  <dc:creator>GREG CHEETHAM</dc:creator>
  <dc:description/>
  <dc:language>en-US</dc:language>
  <cp:lastModifiedBy>GREG CHEETHAM</cp:lastModifiedBy>
  <dcterms:modified xsi:type="dcterms:W3CDTF">2007-11-03T04:49:35Z</dcterms:modified>
  <cp:revision>2</cp:revision>
  <dc:subject/>
  <dc:title>PowerPoint Presentation</dc:title>
</cp:coreProperties>
</file>